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794-0047-4808-A1DD-8775D207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D1E-2D28-4630-BFFF-9F44915B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3B1-EB7D-4604-84A1-2D9E5722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A5E-1523-4CBC-AA3E-AEE49BD0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70D-6508-4655-9D6E-0EA7CFA2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E08-3303-461E-BBE0-96FA3263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2B0-5011-44FA-BAA0-2917A4EB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BDA-625E-4402-A4C6-46F1C20E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310-5D2F-499A-B52B-A82CCD7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630-4230-4E4F-AC37-5F9C5F1D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5B9-1181-4452-A445-8E2C27F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60C-5560-431D-904B-A87E8DE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28B9-B8FE-4641-A1B5-15D657623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28600"/>
            <a:ext cx="6216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ES  OVER  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23880" y="990720"/>
                <a:ext cx="5181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057400" y="2057400"/>
                <a:ext cx="2529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09680" y="2057400"/>
                <a:ext cx="1300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76720" y="1981080"/>
                <a:ext cx="6886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9880" y="1981080"/>
                <a:ext cx="6890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48320" y="205740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76920" y="2057400"/>
                <a:ext cx="78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468760" y="1981080"/>
                <a:ext cx="665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867280" y="1981080"/>
                <a:ext cx="785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400800" y="1981080"/>
                <a:ext cx="8683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57400" y="2895480"/>
                <a:ext cx="1562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505320" y="2819520"/>
                <a:ext cx="688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038480" y="2819520"/>
                <a:ext cx="785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648320" y="2819520"/>
                <a:ext cx="876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47920" y="3657600"/>
                <a:ext cx="525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h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09680" y="4495680"/>
                <a:ext cx="10670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8120" y="4621320"/>
                <a:ext cx="19047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876920" y="4572000"/>
                <a:ext cx="1600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77120" y="4572000"/>
                <a:ext cx="1600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09680" y="5410080"/>
                <a:ext cx="10670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00400" y="5562720"/>
                <a:ext cx="17524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029200" y="5486400"/>
                <a:ext cx="1600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00200" y="228600"/>
            <a:ext cx="6216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ES  OVER  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914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90720" y="1371600"/>
                <a:ext cx="6476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981080"/>
                <a:ext cx="10396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14600" y="2133720"/>
                <a:ext cx="3778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43200" y="1981080"/>
                <a:ext cx="754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352680" y="1981080"/>
                <a:ext cx="18226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29200" y="1981080"/>
                <a:ext cx="1143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00200" y="2895480"/>
                <a:ext cx="10396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14600" y="2971800"/>
                <a:ext cx="1954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95680" y="2971800"/>
                <a:ext cx="1955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3124080"/>
                <a:ext cx="54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2865600"/>
                <a:ext cx="11430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24280" y="3124080"/>
                <a:ext cx="5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81480" y="2895480"/>
                <a:ext cx="1143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90720" y="3733920"/>
                <a:ext cx="33908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00200" y="4648320"/>
                <a:ext cx="43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981080" y="4572000"/>
                <a:ext cx="2340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4495680"/>
                <a:ext cx="7542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00200" y="5486400"/>
                <a:ext cx="43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81080" y="5410080"/>
                <a:ext cx="20811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09680" y="5562720"/>
                <a:ext cx="544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38480" y="5410080"/>
                <a:ext cx="20811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19520" y="4495680"/>
                <a:ext cx="144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66880" y="5410080"/>
                <a:ext cx="1295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267080" y="5562720"/>
                <a:ext cx="544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5410080"/>
                <a:ext cx="1295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00200" y="228600"/>
            <a:ext cx="6216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ES  OVER  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62120" y="1066680"/>
                <a:ext cx="7607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71600" y="1981080"/>
                <a:ext cx="6764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2057400"/>
                <a:ext cx="2617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133720" y="1981080"/>
                <a:ext cx="10666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95480" y="2057400"/>
                <a:ext cx="1668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105520" y="2057400"/>
                <a:ext cx="341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2057400"/>
                <a:ext cx="3222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86400" y="1981080"/>
                <a:ext cx="1496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8720" y="1981080"/>
                <a:ext cx="1722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21000" y="2971800"/>
                <a:ext cx="2347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11760" y="2971800"/>
                <a:ext cx="2900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19520" y="2895480"/>
                <a:ext cx="676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81280" y="2971800"/>
                <a:ext cx="78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105520" y="2895480"/>
                <a:ext cx="10666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19920" y="2895480"/>
                <a:ext cx="1668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90720" y="4038480"/>
                <a:ext cx="16588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19320" y="4114800"/>
                <a:ext cx="4809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66880" y="4038480"/>
                <a:ext cx="1657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71800" y="4114800"/>
                <a:ext cx="4809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76520" y="4114800"/>
                <a:ext cx="787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352680" y="4114800"/>
                <a:ext cx="78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275000" y="4038480"/>
                <a:ext cx="2211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488280" y="4038480"/>
                <a:ext cx="2211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495680" y="4114800"/>
                <a:ext cx="838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705720" y="4114800"/>
                <a:ext cx="838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05520" y="4038480"/>
                <a:ext cx="1295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91520" y="4038480"/>
                <a:ext cx="1295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48320" y="2286000"/>
                <a:ext cx="52056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781680" y="213372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86400" y="2133720"/>
                <a:ext cx="579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67652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ok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g. 658 #1-28 first colum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g. 659 #17-63 first colum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23:54:13Z</dcterms:created>
  <dc:creator>Don Helms</dc:creator>
  <dc:description/>
  <dc:language>en-US</dc:language>
  <cp:lastModifiedBy>CCSS</cp:lastModifiedBy>
  <dcterms:modified xsi:type="dcterms:W3CDTF">2001-05-04T15:48:39Z</dcterms:modified>
  <cp:revision>6</cp:revision>
  <dc:subject/>
  <dc:title>No Slide Title</dc:title>
</cp:coreProperties>
</file>